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15C2DA-8A81-4D97-9BE1-4A80BFA24EF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B8F03B-0B88-4D7F-B192-67127CBDF2A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B7A4B8-EA0A-41C2-84A5-71698E89BB9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637ADB-0FA6-47B3-B819-5DB86FAD4B4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3AF6CD-6889-4B4B-BB6E-98C6F685E1C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79DF03-3A66-45C4-AEF4-B81942DE6EE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0344DD-BB39-4DEE-BA37-3DF35683CE7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E9593D-E9B6-48FE-A615-494AACABFD4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2AD272-D3F9-4408-9B5E-3890F8DE78B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7DBD2-3A28-4E62-9049-5AC389EFE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79574-856B-481F-A3DE-3A9F9A0C7A0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CDCD8-7311-4734-8A5B-3C5CAA49676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53EBD-B6B1-485D-A99A-0246622B7DF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D6F88-62E8-4020-BFDA-72321B3AB95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2D0DC-C205-4156-8452-9C5ABFEB7D3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0F190-D5FD-4686-A61C-5C0E386AFF2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CF2A7-6A7B-4E5C-A163-6D469260106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A9C82-E8C1-484A-B01A-CAF3DA1CE7C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F7E87-F816-47DB-8D18-697068E6C88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E5D35-D015-4638-9825-9D3E2EEF0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A10D7-808B-4AE7-85A6-8A913A1FB97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F1B70F-B7DC-4FC3-AE27-5BA5C492993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8FE533-61B2-4BA2-85D8-E054A9EED88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46005F-F8CB-4355-B8F2-1F10487C059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AC87E1-CFA1-48F2-90D0-0D1466CF282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0CB56E-678D-49F6-9F1E-362DAE01343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9F7519-32C2-46EB-9483-AF96F7AFB62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14B3B1-3CAC-4684-9E29-1C11CA26CDD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E76337-A817-48DC-AC89-F1A33CF570C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5B07AF-3470-4720-84B1-39E4E5C183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DC12C-A836-4F2E-B938-B93BAC1B15C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65D55A-C846-4A22-9A04-0675130DC19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8E9E10-B682-4463-97C4-979C50F0949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A395D8-429D-40CA-9B52-D0BA434ACE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FDC1E-ADA2-492F-96E5-01F22C3C53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0884F-5602-4704-B5B2-AB0B9946D8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06CCC-26E3-47C7-8A36-A92F8F4BA1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4BBF9-0A40-4D1A-B8FA-413EBB35B9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2FE66-6968-4391-A12E-6C67B9685C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3B7C4-7DE6-49D9-AB2A-2D437AE3F1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CAD19-336C-4ED9-8CCC-E9005907D3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F9812-0B36-4D7F-93E0-859179C6BB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EE81A-B891-4AE5-9D46-0D3746BD36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F0DF8-9B0A-4AB0-BFBB-A7C4B81C05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E9CAE-6CE8-4D78-B6DF-B937C9F3B2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29E3E-AB6D-4A7C-9C2A-88C7BCACC7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03260-855F-4E35-8D32-765B129BA7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C353C-B74A-49BC-A252-4D98D11B51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50E79-A5CF-42FC-8973-D1BB8C044F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7877D-A8DC-4BC2-9CC3-36881C138F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863C0-ED63-4F00-85D7-E7C1F06974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65155-7B4A-43B3-8F99-A55209335C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63E43-B5F3-4C32-A0A7-CBFD2401E2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34B36-4FED-4CB5-8BF5-C9F4ACADE9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EBEBD-9FC1-47DD-BA89-772363ABB5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F3E68-75EE-40EC-B9ED-CACDA53FB7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D4538-F413-4D91-89EF-89FF6C367A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680C-60BB-464E-B325-3250B1CC48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4F26-822E-4BA1-BFED-2B48590170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3003-EA81-4E16-A43D-55B15E043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FAB3-3E6D-4077-9029-95E0AD19E2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1335-1125-4961-8518-11706955D6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6EA9-796E-4375-9868-50F7064516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4725-AA58-45FC-B9F9-3B3562E95D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511F-A8F1-46AB-93BD-8444FDC3E5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34BD-115B-4A2C-9E82-2662C66EAE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296F-84AD-46D7-BE15-8A7B3C2426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822B-69F1-4B6B-B53C-73FD5E5550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44B4-382C-4C12-9FD9-2334EF5E337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8BB4A-3C59-40BC-B838-F4E84EF61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F6F7E-3AD1-4B17-A113-0269CFE202E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C5252-5D3F-4AF4-ADAD-8BCC7185695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6279D-B724-4F76-B7CF-D3C5A2E7A2B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8B6E7-78EB-49CF-967A-CFDDBB68E65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E92B6-0B24-495A-A777-E5DEB658A02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97CE6-28B2-4DE4-96F5-EF5F7DEC29F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E8B59-34E6-44B3-8D61-2BA226A16DF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5CB259-2EB9-43F8-85C5-334B1BFC878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B21A0-D3D3-489D-8F8B-D4C8E67F20B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AE9A1-D486-4F94-9B93-5B505B1F1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9402A-6E2B-4ED3-8144-AB4B52E144B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0DC6D8-E5C1-480A-944E-6FC2DE9C0B5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6D6104-BBF9-4B52-989D-F93DE2EF93F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4832FD-7043-4F36-91DD-C241B989EDE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2121FA-8968-4992-BF75-29DD17888AC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A44A8E-9FDB-4DAC-B678-EDA72B77FE1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F69E92-B086-4B79-859B-77C9F67EAB1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9FC581-3C80-4CFB-AA9D-31B109A4E98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653F05-8908-4DD0-8F77-C3C479C0034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B2D6A5-ECE3-4695-A160-24FDB7A2F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BFC52A-D454-4CF4-B6B6-4BB68072BD0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F15464-663C-4395-95CB-BCCDD6CCEE7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E89BA5-8CD1-46CC-BC00-3A114B69983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68166-E2A6-4709-B198-8783F1AEEE5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54348-87E1-4281-99A7-EF24D1166D2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163F8-DEEE-4250-BEF7-C71A5870F70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3A563-92AC-40A4-AA11-486FF5FE3EA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33B6E-3C72-441E-9150-E26BDAD6497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C9E60-6C7A-4B6A-9320-FE32FAC9C31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9A6C5-D029-41C7-8F22-E2B4B963B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12890-15BC-4492-B1F0-F1664E9F7EF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8DA70-51FF-4146-B981-5F64ACE7D8F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941C4-D5E1-4B15-BA57-B12E1DC3128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3A5BA-1A4C-4D0F-9B61-2C583BC75A5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76CA9-08AE-4C5F-80B1-C58802EE69C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E63C4C-1F36-4B45-AB10-5377A5BD415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1FFB9-FBA1-4690-A4E4-1328786FCE3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B3F21-8FDB-418B-852E-43FB555B520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AF81FE-5C57-4F55-A284-1EBF7A3C8BB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AF955D-A333-461B-8CD3-27988A940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141141-DDCA-4B83-B604-CE22A31AF79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0B5B41-F1EE-42BC-9ED1-F4F8C07328C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9764C7-19CB-4F3E-B468-566CEE146C9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96FD49-7F42-49C5-9C76-91B4AD0EA4C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7A3E8-296F-48FD-AA2B-60447EFA748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CB731B-416C-4AC7-B8BE-1BF8B1FF446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BF5581-E5DD-498E-8940-4915F96BFFC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B30C4C-F259-4AC8-B73C-1347C294E93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6A343E-D5C5-4968-BDEE-C311BEDE688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0A289A-C409-4A5A-B616-767E4ED67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6A36-9B0B-4305-9A5D-67B9BBF9BF5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E8AF-9CCA-43C5-B558-021E06085D3A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1368-1D94-4C17-B8E0-37FD10CF5D1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242F-8BD1-46C6-972D-C1AF81C6498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DA70-0B12-41B8-9D57-47BA82E7B3D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6978-2050-4079-B3E0-4CE7BD7EF02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9CB4-44C9-48A6-A4A6-054BC262E4F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BB40-1C46-4093-8BEE-B2D601888B3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F346-8584-4D89-A40F-57C04A3EF2C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195C-2CD0-4CAA-8D7A-BDEB0E54E85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image" Target="../media/image23.jpeg"/><Relationship Id="rId23" Type="http://schemas.openxmlformats.org/officeDocument/2006/relationships/image" Target="../media/image24.jpeg"/><Relationship Id="rId24" Type="http://schemas.openxmlformats.org/officeDocument/2006/relationships/image" Target="../media/image25.jpeg"/><Relationship Id="rId25" Type="http://schemas.openxmlformats.org/officeDocument/2006/relationships/image" Target="../media/image26.jpeg"/><Relationship Id="rId26" Type="http://schemas.openxmlformats.org/officeDocument/2006/relationships/image" Target="../media/image27.jpeg"/><Relationship Id="rId27" Type="http://schemas.openxmlformats.org/officeDocument/2006/relationships/image" Target="../media/image28.jpeg"/><Relationship Id="rId28" Type="http://schemas.openxmlformats.org/officeDocument/2006/relationships/image" Target="../media/image29.jpeg"/><Relationship Id="rId29" Type="http://schemas.openxmlformats.org/officeDocument/2006/relationships/image" Target="../media/image30.jpeg"/><Relationship Id="rId30" Type="http://schemas.openxmlformats.org/officeDocument/2006/relationships/image" Target="../media/image31.jpeg"/><Relationship Id="rId3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341360"/>
            <a:ext cx="8215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Game Desig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i: Prof.ssa Maresa Bertol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dLM a cui è offerto: tutti i CdLM (NO 1° anno Pssd e D&amp;E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2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40 Polimi + 5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’esame per non frequentanti: 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117800" y="1587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Laurea Magistrale - 2°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539640" y="378936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d0d0d"/>
                </a:solidFill>
                <a:latin typeface="Arial"/>
              </a:rPr>
              <a:t>Il corso propone le principali tematiche disciplinari dei Game Studies, riflettendo sul legame tra gioco ed esseri umani, lungo un percorso che si affianca ai principi del Game Design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d0d0d"/>
                </a:solidFill>
                <a:latin typeface="Arial"/>
              </a:rPr>
              <a:t>Questi sono osservati da un punto di vista sia teorico-metologico sia strumentale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d0d0d"/>
                </a:solidFill>
                <a:latin typeface="Arial"/>
              </a:rPr>
              <a:t>Durante il corso gli argomenti teorici si alternano alle attività progettuali, portando gli studenti ad acquisire competenze teoriche e al contempo progettare e prototipare un gioco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ttangolo 7"/>
          <p:cNvSpPr/>
          <p:nvPr/>
        </p:nvSpPr>
        <p:spPr>
          <a:xfrm>
            <a:off x="0" y="836640"/>
            <a:ext cx="9144000" cy="575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1377720" y="158760"/>
            <a:ext cx="595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Corsi a scelta Laurea Magistrale - 2° semest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12 settembre ‘13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8" name="Gruppo 8"/>
          <p:cNvGrpSpPr/>
          <p:nvPr/>
        </p:nvGrpSpPr>
        <p:grpSpPr>
          <a:xfrm>
            <a:off x="792000" y="830160"/>
            <a:ext cx="7634520" cy="5759640"/>
            <a:chOff x="792000" y="830160"/>
            <a:chExt cx="7634520" cy="5759640"/>
          </a:xfrm>
        </p:grpSpPr>
        <p:pic>
          <p:nvPicPr>
            <p:cNvPr id="459" name="Immagine 4" descr="toledano_07.jpg"/>
            <p:cNvPicPr/>
            <p:nvPr/>
          </p:nvPicPr>
          <p:blipFill>
            <a:blip r:embed="rId1"/>
            <a:stretch/>
          </p:blipFill>
          <p:spPr>
            <a:xfrm>
              <a:off x="792000" y="830160"/>
              <a:ext cx="7634520" cy="57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Rectangle 2"/>
            <p:cNvSpPr/>
            <p:nvPr/>
          </p:nvSpPr>
          <p:spPr>
            <a:xfrm>
              <a:off x="1331640" y="1196280"/>
              <a:ext cx="694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:: GIOCARE :: </a:t>
              </a:r>
              <a:endParaRPr b="1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scegliere di affrontare ostacoli non necessari</a:t>
              </a:r>
              <a:endParaRPr b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461" name="Picture 6" descr="http://www.lucastano.it/blog/wp-content/uploads/2012/01/huizinga.jpg"/>
          <p:cNvPicPr/>
          <p:nvPr/>
        </p:nvPicPr>
        <p:blipFill>
          <a:blip r:embed="rId2"/>
          <a:stretch/>
        </p:blipFill>
        <p:spPr>
          <a:xfrm>
            <a:off x="900000" y="836640"/>
            <a:ext cx="7620120" cy="5761080"/>
          </a:xfrm>
          <a:prstGeom prst="rect">
            <a:avLst/>
          </a:prstGeom>
          <a:ln w="0">
            <a:noFill/>
          </a:ln>
        </p:spPr>
      </p:pic>
      <p:grpSp>
        <p:nvGrpSpPr>
          <p:cNvPr id="462" name="Gruppo 35"/>
          <p:cNvGrpSpPr/>
          <p:nvPr/>
        </p:nvGrpSpPr>
        <p:grpSpPr>
          <a:xfrm>
            <a:off x="-71280" y="750960"/>
            <a:ext cx="9396360" cy="5844960"/>
            <a:chOff x="-71280" y="750960"/>
            <a:chExt cx="9396360" cy="5844960"/>
          </a:xfrm>
        </p:grpSpPr>
        <p:pic>
          <p:nvPicPr>
            <p:cNvPr id="463" name="Picture 21" descr="C:\dati_mare\didattica\materiale_didattico_archivio\game_design\foto_umani\marc_leblanc.jpg"/>
            <p:cNvPicPr/>
            <p:nvPr/>
          </p:nvPicPr>
          <p:blipFill>
            <a:blip r:embed="rId3"/>
            <a:stretch/>
          </p:blipFill>
          <p:spPr>
            <a:xfrm>
              <a:off x="4465080" y="5085360"/>
              <a:ext cx="1742760" cy="14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14" descr="C:\dati_mare\didattica\materiale_didattico_archivio\game_design\foto_umani\David-Parlett-.jpg"/>
            <p:cNvPicPr/>
            <p:nvPr/>
          </p:nvPicPr>
          <p:blipFill>
            <a:blip r:embed="rId4"/>
            <a:stretch/>
          </p:blipFill>
          <p:spPr>
            <a:xfrm>
              <a:off x="-71280" y="4509360"/>
              <a:ext cx="1763640" cy="20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17" descr="C:\dati_mare\didattica\materiale_didattico_archivio\game_design\foto_umani\huizinga_giovane.jpg"/>
            <p:cNvPicPr/>
            <p:nvPr/>
          </p:nvPicPr>
          <p:blipFill>
            <a:blip r:embed="rId5"/>
            <a:stretch/>
          </p:blipFill>
          <p:spPr>
            <a:xfrm>
              <a:off x="7034400" y="835920"/>
              <a:ext cx="2038320" cy="223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18" descr="C:\dati_mare\didattica\materiale_didattico_archivio\game_design\foto_umani\jesper-juul2.jpg"/>
            <p:cNvPicPr/>
            <p:nvPr/>
          </p:nvPicPr>
          <p:blipFill>
            <a:blip r:embed="rId6"/>
            <a:stretch/>
          </p:blipFill>
          <p:spPr>
            <a:xfrm>
              <a:off x="180000" y="907920"/>
              <a:ext cx="2857320" cy="189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22" descr="C:\dati_mare\didattica\materiale_didattico_archivio\game_design\foto_umani\mcgonigal.jpg"/>
            <p:cNvPicPr/>
            <p:nvPr/>
          </p:nvPicPr>
          <p:blipFill>
            <a:blip r:embed="rId7"/>
            <a:stretch/>
          </p:blipFill>
          <p:spPr>
            <a:xfrm>
              <a:off x="468000" y="2780640"/>
              <a:ext cx="2857320" cy="160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27" descr="C:\dati_mare\didattica\materiale_didattico_archivio\game_design\foto_umani\suits.jpg"/>
            <p:cNvPicPr/>
            <p:nvPr/>
          </p:nvPicPr>
          <p:blipFill>
            <a:blip r:embed="rId8"/>
            <a:stretch/>
          </p:blipFill>
          <p:spPr>
            <a:xfrm>
              <a:off x="5796720" y="750960"/>
              <a:ext cx="110304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29" descr="C:\dati_mare\didattica\materiale_didattico_archivio\game_design\foto_umani\teuber.jpg"/>
            <p:cNvPicPr/>
            <p:nvPr/>
          </p:nvPicPr>
          <p:blipFill>
            <a:blip r:embed="rId9"/>
            <a:stretch/>
          </p:blipFill>
          <p:spPr>
            <a:xfrm>
              <a:off x="3420360" y="2204280"/>
              <a:ext cx="4572000" cy="30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30" descr="C:\dati_mare\didattica\materiale_didattico_archivio\game_design\foto_umani\thummelhofer.jpg"/>
            <p:cNvPicPr/>
            <p:nvPr/>
          </p:nvPicPr>
          <p:blipFill>
            <a:blip r:embed="rId10"/>
            <a:stretch/>
          </p:blipFill>
          <p:spPr>
            <a:xfrm>
              <a:off x="612000" y="1195920"/>
              <a:ext cx="1015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25" descr="C:\dati_mare\didattica\materiale_didattico_archivio\game_design\foto_umani\salen.jpg"/>
            <p:cNvPicPr/>
            <p:nvPr/>
          </p:nvPicPr>
          <p:blipFill>
            <a:blip r:embed="rId11"/>
            <a:stretch/>
          </p:blipFill>
          <p:spPr>
            <a:xfrm>
              <a:off x="2844360" y="1195920"/>
              <a:ext cx="2466720" cy="18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24" descr="C:\dati_mare\didattica\materiale_didattico_archivio\game_design\foto_umani\RichardBartle2011.jpg"/>
            <p:cNvPicPr/>
            <p:nvPr/>
          </p:nvPicPr>
          <p:blipFill>
            <a:blip r:embed="rId12"/>
            <a:stretch/>
          </p:blipFill>
          <p:spPr>
            <a:xfrm>
              <a:off x="5148720" y="763920"/>
              <a:ext cx="669600" cy="10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23" descr="C:\dati_mare\didattica\materiale_didattico_archivio\game_design\foto_umani\portraet_brett_kramer_g.jpg"/>
            <p:cNvPicPr/>
            <p:nvPr/>
          </p:nvPicPr>
          <p:blipFill>
            <a:blip r:embed="rId13"/>
            <a:stretch/>
          </p:blipFill>
          <p:spPr>
            <a:xfrm>
              <a:off x="6661080" y="4077000"/>
              <a:ext cx="2664000" cy="239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28" descr="C:\dati_mare\didattica\materiale_didattico_archivio\game_design\foto_umani\sutton-smith.jpg"/>
            <p:cNvPicPr/>
            <p:nvPr/>
          </p:nvPicPr>
          <p:blipFill>
            <a:blip r:embed="rId14"/>
            <a:stretch/>
          </p:blipFill>
          <p:spPr>
            <a:xfrm>
              <a:off x="2052360" y="4725360"/>
              <a:ext cx="2571480" cy="17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20" descr="C:\dati_mare\didattica\materiale_didattico_archivio\game_design\foto_umani\Kiesling_1.JPG"/>
            <p:cNvPicPr/>
            <p:nvPr/>
          </p:nvPicPr>
          <p:blipFill>
            <a:blip r:embed="rId15"/>
            <a:stretch/>
          </p:blipFill>
          <p:spPr>
            <a:xfrm>
              <a:off x="1044000" y="4293000"/>
              <a:ext cx="1368000" cy="20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15" descr="C:\dati_mare\didattica\materiale_didattico_archivio\game_design\foto_umani\friese.jpg"/>
            <p:cNvPicPr/>
            <p:nvPr/>
          </p:nvPicPr>
          <p:blipFill>
            <a:blip r:embed="rId16"/>
            <a:stretch/>
          </p:blipFill>
          <p:spPr>
            <a:xfrm>
              <a:off x="2628360" y="3315960"/>
              <a:ext cx="2376000" cy="15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19" descr="C:\dati_mare\didattica\materiale_didattico_archivio\game_design\foto_umani\JesseSchell.jpg"/>
            <p:cNvPicPr/>
            <p:nvPr/>
          </p:nvPicPr>
          <p:blipFill>
            <a:blip r:embed="rId17"/>
            <a:stretch/>
          </p:blipFill>
          <p:spPr>
            <a:xfrm>
              <a:off x="6949080" y="2564640"/>
              <a:ext cx="1728000" cy="9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13" descr="C:\dati_mare\didattica\materiale_didattico_archivio\game_design\foto_umani\csikszentmihalyi.jpg"/>
            <p:cNvPicPr/>
            <p:nvPr/>
          </p:nvPicPr>
          <p:blipFill>
            <a:blip r:embed="rId18"/>
            <a:stretch/>
          </p:blipFill>
          <p:spPr>
            <a:xfrm>
              <a:off x="6228720" y="4437000"/>
              <a:ext cx="1136520" cy="15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12" descr="C:\dati_mare\didattica\materiale_didattico_archivio\game_design\foto_umani\costikyan.jpg"/>
            <p:cNvPicPr/>
            <p:nvPr/>
          </p:nvPicPr>
          <p:blipFill>
            <a:blip r:embed="rId19"/>
            <a:stretch/>
          </p:blipFill>
          <p:spPr>
            <a:xfrm>
              <a:off x="2556360" y="763920"/>
              <a:ext cx="1174680" cy="155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0" name="Gruppo 52"/>
          <p:cNvGrpSpPr/>
          <p:nvPr/>
        </p:nvGrpSpPr>
        <p:grpSpPr>
          <a:xfrm>
            <a:off x="-11160" y="836640"/>
            <a:ext cx="9144000" cy="5759280"/>
            <a:chOff x="-11160" y="836640"/>
            <a:chExt cx="9144000" cy="5759280"/>
          </a:xfrm>
        </p:grpSpPr>
        <p:sp>
          <p:nvSpPr>
            <p:cNvPr id="481" name="Rettangolo 45"/>
            <p:cNvSpPr/>
            <p:nvPr/>
          </p:nvSpPr>
          <p:spPr>
            <a:xfrm>
              <a:off x="-11160" y="836640"/>
              <a:ext cx="9144000" cy="575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482" name="Immagine 47" descr="DSC_0031.jpg"/>
            <p:cNvPicPr/>
            <p:nvPr/>
          </p:nvPicPr>
          <p:blipFill>
            <a:blip r:embed="rId20"/>
            <a:stretch/>
          </p:blipFill>
          <p:spPr>
            <a:xfrm>
              <a:off x="3644640" y="2755440"/>
              <a:ext cx="5344200" cy="355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Immagine 48" descr="2013-07-23 13.33.45.jpg"/>
            <p:cNvPicPr/>
            <p:nvPr/>
          </p:nvPicPr>
          <p:blipFill>
            <a:blip r:embed="rId21"/>
            <a:stretch/>
          </p:blipFill>
          <p:spPr>
            <a:xfrm>
              <a:off x="131760" y="3770640"/>
              <a:ext cx="3384360" cy="253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Immagine 49" descr="2013-07-23 17.12.30.jpg"/>
            <p:cNvPicPr/>
            <p:nvPr/>
          </p:nvPicPr>
          <p:blipFill>
            <a:blip r:embed="rId22"/>
            <a:stretch/>
          </p:blipFill>
          <p:spPr>
            <a:xfrm>
              <a:off x="131760" y="1052640"/>
              <a:ext cx="3384000" cy="253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Immagine 50" descr="2013-07-09 15.02.48.jpg"/>
            <p:cNvPicPr/>
            <p:nvPr/>
          </p:nvPicPr>
          <p:blipFill>
            <a:blip r:embed="rId23"/>
            <a:stretch/>
          </p:blipFill>
          <p:spPr>
            <a:xfrm>
              <a:off x="3660120" y="1052640"/>
              <a:ext cx="2063880" cy="15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Immagine 51" descr="2013-07-09 14.44.20.jpg"/>
            <p:cNvPicPr/>
            <p:nvPr/>
          </p:nvPicPr>
          <p:blipFill>
            <a:blip r:embed="rId24"/>
            <a:stretch/>
          </p:blipFill>
          <p:spPr>
            <a:xfrm>
              <a:off x="5844600" y="1052640"/>
              <a:ext cx="2063880" cy="15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7" name="Gruppo 44"/>
          <p:cNvGrpSpPr/>
          <p:nvPr/>
        </p:nvGrpSpPr>
        <p:grpSpPr>
          <a:xfrm>
            <a:off x="-36360" y="836640"/>
            <a:ext cx="9144000" cy="5761080"/>
            <a:chOff x="-36360" y="836640"/>
            <a:chExt cx="9144000" cy="5761080"/>
          </a:xfrm>
        </p:grpSpPr>
        <p:sp>
          <p:nvSpPr>
            <p:cNvPr id="488" name="Rettangolo 38"/>
            <p:cNvSpPr/>
            <p:nvPr/>
          </p:nvSpPr>
          <p:spPr>
            <a:xfrm>
              <a:off x="-36360" y="836640"/>
              <a:ext cx="9144000" cy="576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489" name="Immagine 37" descr="stand_video.jpg"/>
            <p:cNvPicPr/>
            <p:nvPr/>
          </p:nvPicPr>
          <p:blipFill>
            <a:blip r:embed="rId25"/>
            <a:stretch/>
          </p:blipFill>
          <p:spPr>
            <a:xfrm>
              <a:off x="165960" y="979920"/>
              <a:ext cx="3936240" cy="29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Immagine 40" descr="stand_players_12.jpg"/>
            <p:cNvPicPr/>
            <p:nvPr/>
          </p:nvPicPr>
          <p:blipFill>
            <a:blip r:embed="rId26"/>
            <a:stretch/>
          </p:blipFill>
          <p:spPr>
            <a:xfrm>
              <a:off x="4270680" y="3356640"/>
              <a:ext cx="3552480" cy="266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Immagine 39" descr="stand_pannello_2.jpg"/>
            <p:cNvPicPr/>
            <p:nvPr/>
          </p:nvPicPr>
          <p:blipFill>
            <a:blip r:embed="rId27"/>
            <a:stretch/>
          </p:blipFill>
          <p:spPr>
            <a:xfrm>
              <a:off x="6143040" y="1051920"/>
              <a:ext cx="2843640" cy="21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Immagine 41" descr="stand_players_8.jpg"/>
            <p:cNvPicPr/>
            <p:nvPr/>
          </p:nvPicPr>
          <p:blipFill>
            <a:blip r:embed="rId28"/>
            <a:stretch/>
          </p:blipFill>
          <p:spPr>
            <a:xfrm>
              <a:off x="165960" y="4149000"/>
              <a:ext cx="2267640" cy="170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Immagine 42" descr="stand_players_11.jpg"/>
            <p:cNvPicPr/>
            <p:nvPr/>
          </p:nvPicPr>
          <p:blipFill>
            <a:blip r:embed="rId29"/>
            <a:stretch/>
          </p:blipFill>
          <p:spPr>
            <a:xfrm>
              <a:off x="2614320" y="5202720"/>
              <a:ext cx="1475640" cy="11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Immagine 43" descr="stand_players_3.jpg"/>
            <p:cNvPicPr/>
            <p:nvPr/>
          </p:nvPicPr>
          <p:blipFill>
            <a:blip r:embed="rId30"/>
            <a:stretch/>
          </p:blipFill>
          <p:spPr>
            <a:xfrm>
              <a:off x="4379040" y="1988280"/>
              <a:ext cx="1547640" cy="115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maresa</cp:lastModifiedBy>
  <cp:lastPrinted>2003-05-08T11:08:41Z</cp:lastPrinted>
  <dcterms:modified xsi:type="dcterms:W3CDTF">2014-07-29T12:19:56Z</dcterms:modified>
  <cp:revision>214</cp:revision>
  <dc:subject/>
  <dc:title>Inserire immagine della locandina, possibilmente in trasparenza e aggiungere Facoltà di Architettura Illustrazione prova di ammissione prof. Silvia Piardi (idem Cedolin)</dc:title>
</cp:coreProperties>
</file>